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9A66-D004-4663-BCD6-A6974DD26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2F30-D8EA-471E-A7DC-C654B294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4639-3352-46BD-879E-46AF2B28A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B576-6577-47C2-A00A-E16970A2E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9A67-E3D4-4A9F-8C92-8DCD6A17B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577B-47EC-44D2-B152-BC5218DF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F3C3-A4F3-4034-B1D7-7180A12D4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3ECC-0131-4BCC-A60B-B1944EBF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92F5-04E5-462A-AE96-17C74BFB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1B2A-070C-48BF-A5DA-1E8AA7E5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8C9A-D1B1-4306-A686-76EFE5E1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5E2B-A998-45F7-8AB5-D9C153DC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31A8-40E0-4C91-8EE7-4042E9BF39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04920" y="1523880"/>
            <a:ext cx="8610480" cy="358164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中考英语单选经典题精练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280" y="304920"/>
            <a:ext cx="87631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31. It is clever _____ you ______out the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for, to work            B. of, working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. for, working           D. of, to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32 Is it important _____Amy ____the Reading Clu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for, to join               B. for, to join in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. of,  to join                D. of, to join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33. The boy is _________him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enough old to dress B. old enough to dress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. enough old dressing D. old enough dr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34. Is _____possible to fly to the moon in a spaceshi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this              B. that              C. man      D.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235080"/>
            <a:ext cx="5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00400" y="1676520"/>
            <a:ext cx="5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3048120"/>
            <a:ext cx="5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4724280"/>
            <a:ext cx="5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52280" y="228600"/>
            <a:ext cx="8686800" cy="64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35. If your star sign is ______, it means that you are stubborn and don’t like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Aries   B. Taurus    C. Gemini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D. Can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36. It’s ______comfortable to read in a ___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very, quite            B. quite, quiet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. too, quiet             D. so, qu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37. We should help poor people in _____parts of Asia and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the others   B. other    C. others    D.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38. It’s good of you to keep____ when you have something difficult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trying; to do                  B. trying; doing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. to try; to do                   D. trying; to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28600"/>
            <a:ext cx="5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676520"/>
            <a:ext cx="5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3048120"/>
            <a:ext cx="5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4572000"/>
            <a:ext cx="5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304920"/>
            <a:ext cx="8686800" cy="611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39.—-I’m ____ to eat a horse now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---Really? But I don’t have___ for you. I’m so sor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hungry enough; food enough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. enough hungry; enough 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. hungry enough; enough food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. enough hungry; food en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40. I can’t see _______in the fitting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somebody B. anybody C. nobody  D. every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41. It’s _____for us _______polite in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interesting, to become   B. important, to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. good, to                            D. necessary, to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42. The  room is safe to 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live in      B. live at      C. live          D. live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3048120"/>
            <a:ext cx="5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152280"/>
            <a:ext cx="5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3962520"/>
            <a:ext cx="5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5181480"/>
            <a:ext cx="5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2280" y="304920"/>
            <a:ext cx="8839440" cy="545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43. She was _____angry __she couldn’t say a wo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too…to    B. so…that    C. very, that      D. /, so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44. The story happened _____the morning ______May 8,200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in, in         B. in, on      C. on, on        D. on,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45. Why do these children look so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carefully     B. happy      C. younger      D. happ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46. ----Mum, may I go out and play footb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----Yes, you may if your homework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finishes             B. is finished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. was finished     D. has fin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1143000"/>
            <a:ext cx="5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228600"/>
            <a:ext cx="5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00800" y="4343400"/>
            <a:ext cx="5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791320" y="2743200"/>
            <a:ext cx="5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28600" y="152280"/>
            <a:ext cx="8610480" cy="611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47. ----Where is your br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----He ______Beijing. He has ______there tw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has gone to, gone            B. has gone to,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. has been to, gone            D. has been to,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48. He ___________the life in Suzhou, isn’t 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is used to    B. used to   C. is used    D. us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49. He ____you the news if he ______tom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tells, will come back    B. will tell, come 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. will tell, comes back   D. will tell, will come 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50. Don’t make him ____all the time. Tell him _____a 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working, have     B. work, to hav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. to work, to have  D. works,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609480"/>
            <a:ext cx="5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62320" y="1981080"/>
            <a:ext cx="5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2971800"/>
            <a:ext cx="5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05320" y="4419720"/>
            <a:ext cx="5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28600" y="146160"/>
            <a:ext cx="8534520" cy="63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51. The old men should be treated with 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kindness      B. kind       C. kindly      D. ki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52. He ______to learn English when he was six years 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taught himself          B. teaches him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. taught him                D. teaches h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53. The boy would rather _______than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listening to music, watching TV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. to listen to music, watch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. listens to music, watches TV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. listen to music, watch T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54. Sandy was _____a bad mood and nobody could _______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with, cheer up her          B. with, cheer her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. in, cheer up her              D. in, cheer her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0"/>
            <a:ext cx="5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76520" y="914400"/>
            <a:ext cx="5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2514600"/>
            <a:ext cx="5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4572000"/>
            <a:ext cx="5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28600" y="378000"/>
            <a:ext cx="8686800" cy="594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55. Thank you _______me to your birthday par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A. for invite       B. to invit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C. for inviting    D. of inv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56. Travelling by bus isn’t _____travelling by train, I thin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A. very comfortable than   B. as comfortable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C. as comfortable than       D. more comfortable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57. We _____seeing the film stars on TV program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A. used to  B. will used to  C. are used to     D. us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58. It is ____noisy here ______I can’t hear you clear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A. very, because       B. too, t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C. very, that               D. so,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73240" y="3049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9400" y="19810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5320" y="38098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01640" y="48006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" y="314280"/>
            <a:ext cx="861048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59. ------Do you mind opening the window?  -----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Of course not.    B. Yes, please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. No, I can’t            D. Yes, I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60. Don’t cry any more. The police ______your s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were found         B. are finding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. have found         D. 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61. Nanjing is ______city that many visitors come to visit it every ye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such beautiful      B. such a beautiful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.  so a beautiful       D. so beauti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62. There is _____in the box. It’s emp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something strange       B. strange some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. nothing strange            D. strange n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153280" y="380880"/>
            <a:ext cx="5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5880" y="1752480"/>
            <a:ext cx="5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200400"/>
            <a:ext cx="51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38280" y="5181480"/>
            <a:ext cx="5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52280" y="393840"/>
            <a:ext cx="86868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63. Lucy prefers __________to 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singing, dancing    B. to sing, dance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. to sing, dancing      D. sing, 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64. -----How many students are there in the classroom? ------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somebody   B. No one  C. Nobody    D. N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65. She didn’t listen to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anyone else         B. someone else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. no one else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      D. none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66. Mr. Wang teaches ______Eng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our      B. us          C. ourselves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D. 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3049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22096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14800" y="32767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114800" y="48006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28600" y="228600"/>
            <a:ext cx="8534520" cy="545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67. A black and white cat ______under the ta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A. is        B. are          C. be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           D.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68._____English is ____useful language in the worl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A. /, a          B. An, an        C. The, a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  D.A, 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69._____of us likes this fil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A. Nobody        B. None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  C. No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D.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70. Do you know how many colours ______in a rainb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A. are there            B. is there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C. there are            D. there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1522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2193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22096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72200" y="31240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7080" y="481320"/>
            <a:ext cx="8750160" cy="594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. ____ is clever ____Tom to make Christmas ca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. That, of   B. He, for  C. This, for   D. It,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2. The person with the star sign Taurus is said to be _______and doesn’t like to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. clever  B. stubborn  C. selfish  D. mod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3. Mike is very _______because he always gives money to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. curious   B. patient   C. active   D. generou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4. The underlined part in the sentence “I hav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many good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books.” is a/an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. attributive  B. object  C. predicate  D. su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4572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.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251460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.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00400" y="342900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.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62520" y="541008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.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09480" y="533520"/>
            <a:ext cx="82296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71. Some colours make us ______calm and peace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A. feel       B. to feel     C. to fell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   D. f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72. Large animals, _______, tigers and lions, live on m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A. for examples         B. for example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C. for an example      D. such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73. Shanghai is too far away. I’d rather ______in Suzh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A. going shopping            B. to go sho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C. shopping                       D. go sho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19810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5335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34320" y="3886200"/>
            <a:ext cx="6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361800"/>
            <a:ext cx="8382240" cy="623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74. Learning ______ country’s language is a better way of knowing ______culture behind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the, a        B. a, the        C./, the        D. a,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75. I haven’t had much success ________ my applications for my jo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for          B. with         C. on            D.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76. Thank you for ______ me _____your English teac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recommend, as       B. recommending, fo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. recommending, as   D. recommends,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77. I was _____to watch the _____football match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exciting, excited  B. exciting, exciting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. excited, excited    D, excited, exc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66880" y="152280"/>
            <a:ext cx="6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1752480"/>
            <a:ext cx="6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05320" y="3048120"/>
            <a:ext cx="6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800600"/>
            <a:ext cx="6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0880" y="225360"/>
            <a:ext cx="8534520" cy="63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78. Some of the signs ________crea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represented by           B. is represented b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. are represented by    D. are represented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79. —I am sorry I ________my homework a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—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hat’s all right. Don’t forget _____it to school this aftern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forget, to take     B. forget, to bring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. left, to take          D. left, to b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80. —Would you tell me ______an e-mail, ple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  —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Tom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how to make        B. how to send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. which to make     D. when to s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81. —May I have a glass of beer, ple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—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eer? Sorry, there’s ______left, but would you like some juice inste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none    B. something      C. nothing     D. no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14800" y="42840"/>
            <a:ext cx="6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1285920"/>
            <a:ext cx="6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3238560"/>
            <a:ext cx="6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48320" y="5148360"/>
            <a:ext cx="6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04920" y="64440"/>
            <a:ext cx="8534160" cy="691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82. Do you have ________to do the work _____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enough time, good enough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. time enough, enough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. enough time, well enough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. time enough, enough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83. He always ________his friends about everything. In fact, he has no thoughts of his 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plays with      B. deals with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. talks with        D. agree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84. The white walls in hospital make me _____that I feel even wo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to feel stressed    B. feel very stressed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. so stressed          D. very str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81280" y="228600"/>
            <a:ext cx="6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124080" y="2743200"/>
            <a:ext cx="6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4648320"/>
            <a:ext cx="6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28600" y="304920"/>
            <a:ext cx="8610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85. We all find _____dangerous to skate on the thin 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this         B. it          C. that           D.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86. I hope you _____to me s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to write    B. will write   C. write     D. wr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87. Beef noodles in Lanzhou taste the best in China and 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are sold well      B. sell well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. sell good           D. are sold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88. Simon has been on the phon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Narrow"/>
              </a:rPr>
              <a:t>for half an hour.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What sentence element is the underlined pa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Predicative.       B. Predicate.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. Attributive.        D. Adverb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66880" y="304920"/>
            <a:ext cx="6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666880" y="1676520"/>
            <a:ext cx="6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66680" y="3200400"/>
            <a:ext cx="6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077320" y="5334120"/>
            <a:ext cx="6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28600" y="626040"/>
            <a:ext cx="82296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89. It kept _____ all day, so we couldn’t go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. rain          B. raining       C. to rain          D. 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90. ----Who helped you repair your bike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----______! I repaired it all by myse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. Everybody           B. Anybody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. Somebody           D. No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91. ---Can you tell me something about the accident, Tommy?     ----_____. I know _____about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. Yes; a little            B. Yes; little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. Yes; nothing         D. No; a lit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92. The light is still_________. Mr. Green _________at home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. on, can be          B. down, may be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. on, must be         D. up, can’t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51840" y="53352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 Black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32520" y="1905120"/>
            <a:ext cx="48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 Black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381760" y="358128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 Black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35200" y="487692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 Black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04920" y="535320"/>
            <a:ext cx="84582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93. They are going to have a picnic _________ next we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. sometimes          B. sometime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. some time           D. some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94. ---When shall we go to the concert, today or tomorr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------_______ is OK. I am free this we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. Both         B. All          C. Either          D. Nei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95. _______ delicious food! Do you need ______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. How; more some    B. What; some more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. How; some more    D. What; more s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96.The best way to learn English is _____ you _____ in an English-speaking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. let; to live                 B. to let;  live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. letting; living           D. letting ;to l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18920" y="46656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 Black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06400" y="220968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 Black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94640" y="312408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 Black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85560" y="431964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 Black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57200" y="417960"/>
            <a:ext cx="84582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97. The story is really interesting, but I don’t think ______ will lik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. somebody               B. anybody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. everybody               D. no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98. ----“It’s too cold. Would you mind_________ the window?”  ----“_____. But don’t do it now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. to close; Sure              B. closing; Good ide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. closing; Better not        D. closing; Of course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99. The boy is often seen _______  basketball after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. play                    B. to play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. to playing           D. pla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00. He’s never been to a foreign country, ________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. isn’t he             B. is he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. has he             D. hasn’t 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50000" y="142920"/>
            <a:ext cx="43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 Black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57160" y="1981080"/>
            <a:ext cx="48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 Black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42760" y="3886200"/>
            <a:ext cx="45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 Black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705720" y="502920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 Black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456120"/>
            <a:ext cx="85341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5. —I’ll have an English exam about star sign next Monday.         — 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. Bad luck              B. That’s great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. Glad to hear that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. Good luck to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6. Millie is getting on well with her friends but she is a little selfish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. in time   B. on time   C. at times    D. at a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7. Which animal is not in star signs but in the Chinese horoscopes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生肖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鸡" descr=""/>
          <p:cNvPicPr/>
          <p:nvPr/>
        </p:nvPicPr>
        <p:blipFill>
          <a:blip r:embed="rId1"/>
          <a:stretch/>
        </p:blipFill>
        <p:spPr>
          <a:xfrm>
            <a:off x="1143000" y="5029200"/>
            <a:ext cx="1149480" cy="990720"/>
          </a:xfrm>
          <a:prstGeom prst="rect">
            <a:avLst/>
          </a:prstGeom>
          <a:ln w="0">
            <a:noFill/>
          </a:ln>
        </p:spPr>
      </p:pic>
      <p:pic>
        <p:nvPicPr>
          <p:cNvPr id="49" name="螃蟹" descr=""/>
          <p:cNvPicPr/>
          <p:nvPr/>
        </p:nvPicPr>
        <p:blipFill>
          <a:blip r:embed="rId2"/>
          <a:stretch/>
        </p:blipFill>
        <p:spPr>
          <a:xfrm>
            <a:off x="4648320" y="4876920"/>
            <a:ext cx="1295280" cy="1101600"/>
          </a:xfrm>
          <a:prstGeom prst="rect">
            <a:avLst/>
          </a:prstGeom>
          <a:ln w="0">
            <a:noFill/>
          </a:ln>
        </p:spPr>
      </p:pic>
      <p:pic>
        <p:nvPicPr>
          <p:cNvPr id="50" name="羊" descr=""/>
          <p:cNvPicPr/>
          <p:nvPr/>
        </p:nvPicPr>
        <p:blipFill>
          <a:blip r:embed="rId3"/>
          <a:stretch/>
        </p:blipFill>
        <p:spPr>
          <a:xfrm>
            <a:off x="6248520" y="4876920"/>
            <a:ext cx="1371600" cy="10206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724280" y="611424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扭" descr=""/>
          <p:cNvPicPr/>
          <p:nvPr/>
        </p:nvPicPr>
        <p:blipFill>
          <a:blip r:embed="rId4"/>
          <a:stretch/>
        </p:blipFill>
        <p:spPr>
          <a:xfrm>
            <a:off x="2895480" y="5029200"/>
            <a:ext cx="1295640" cy="960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71800" y="61524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24480" y="60379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38400" y="61444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91440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28954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.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001000" y="39625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7.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0" y="912960"/>
            <a:ext cx="8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.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09520" y="169920"/>
            <a:ext cx="86486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8. Don’t eat_____ meat any more. You are____ fat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. too much; much too  B. too many; many t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. much too; too much  D. many too; too m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9. Although Maths is very difficult, you can’t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. give in it B. give it in  C. give up it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D. give it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0. I have____ to do before the exam, so I can’t watch_______ TV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. a lot; a lot of        B. a lot; a lot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. a lot of; a lot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D. a lot of; a lot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1. --- Do you want tea or coffee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--- ______. I really don’t m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. Both    B. None  C. Either    D. Nei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08120" y="2309040"/>
            <a:ext cx="32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90920" y="2095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8.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48720" y="220968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9.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28840" y="363852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.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52480" y="563868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1.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04920" y="380880"/>
            <a:ext cx="8534160" cy="58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12. I felt_______ yesterday evening, and then I fell____ quick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sleepy, asleep    B. asleep, asleep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. sleepy, sleepy    D. asleep, slee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13. Most boys_____ guns to dolls while most girls _____ have dolls than gu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would rather; prefer      B. prefer; would r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. would rather; would rather    D. prefer; pre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14. This pair of  jeans looks nice______ Sandy because she looks very nice___ b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on; in       B. in; on      C. for; on      D. to;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15. I prefer _____ shopping to _____ at ho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to go; staying     B. going; stay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. going; staying    D. go; to st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66960" y="3049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2.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52760" y="201924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3.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48240" y="367668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4.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48769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5.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3200" y="263520"/>
            <a:ext cx="8839440" cy="63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16. —Did you take_____ one-day trip to the West Hill last Sunday?   —Yes. It was fantastic! It’s____ most delightful trip I’ve ever ha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A. a; a      B. an; a     C. a; the       D. an; t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17.  I am very tired now and want very much to have a rest, but ______I’ll help you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A. somehow  B. anyway  C. therefore    D. howe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18. —Don’t you enjoy watching the English programme Outlook English Magazine on CCTV Channel 10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   —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______.I think it very helpful to improve my listening and speaking abili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A. Yes, I do  B. No, I don’t  C. Yes, I don’t  D. No, I 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19. You will find this week’s programme </a:t>
            </a:r>
            <a:r>
              <a:rPr b="1" lang="zh-CN" sz="3000" spc="-1" strike="noStrike" u="sng">
                <a:solidFill>
                  <a:srgbClr val="000000"/>
                </a:solidFill>
                <a:uFillTx/>
                <a:latin typeface="Arial Narrow"/>
              </a:rPr>
              <a:t>a bit boring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.         What is the underlined par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A. object complement        B. predicative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Arial Narrow"/>
              </a:rPr>
              <a:t>C. adverbial                         D. ob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2476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6.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220968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7.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37339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8.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77320" y="51055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9.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8600" y="304920"/>
            <a:ext cx="861048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20. ______of students of the school is over 2000.____of them are from the c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The number; The number B.  A number; A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. The number; A nu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D. A number; Th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21. She is _______ a good student. She is always ready to help ot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so     B. such    C. too     D. 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22. I was doing my homework ______ the telephone rang. It was my au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when    B. while     C. as     D. as soon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23. We’ll do what we can _____ English well this te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It’s high time for you to work h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. study  B. to study  C. be studied  D. be stud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3808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.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22860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1.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73392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2.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91120" y="5257800"/>
            <a:ext cx="99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3.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380880"/>
            <a:ext cx="8534160" cy="58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24. You won’t necessarily_____ at everything the first time you 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A. succeed               B. success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C. successful           D. successfu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25. —How long_______ the Supermarket_______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 —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Since last month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A. has; opened       B. did; open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C. had; opened       D. has; been 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26. Would you please______ me______ to do nex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A. to tell; how       B. to tell; what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C. telling; how       D. tell; w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27. The ____ mother will give ____ of them a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A. twin’s; every    B. twin’s; both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C. twins’; each    D. twins’; e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3808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4.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19810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5.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62520" y="365760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6.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00200" y="49528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7.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66760" y="533520"/>
            <a:ext cx="8839080" cy="54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28. How_______ she sings! I have never heard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A. beautiful; a better voice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B. beautifully; a better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C. beautiful; the better voice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D. beautifully; the better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29. A lot of students at my school _____about the TV programmes they like in the past two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A. interview                      B. intervie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C. have interviewed         D. have been intervie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30.  —Thank God. It’s Friday again. Have a nice weekend! —_______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A. Me too                     B. Yes, I’11 be free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C. The same to you    D. That’s all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45720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8.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91320" y="251460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9.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47242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0.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uXitong</cp:lastModifiedBy>
  <dcterms:modified xsi:type="dcterms:W3CDTF">2016-01-31T05:37:22Z</dcterms:modified>
  <cp:revision>19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